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E340-2DC2-4811-AB79-9D2C4A965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2E8E-F570-4C43-850F-80572BB0C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A57E-0F1C-4512-8386-D7DED464A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70C2-2714-4F53-B0E3-1A5D92095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528F7-D1F7-4564-9DA9-C2AC5C66D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1DF91-A9FA-4821-B5F5-B15CC03FF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761BB-CBE6-4D06-8293-333E8C735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7941C-E79B-4B6E-9914-EE401503F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F183E-F206-4572-8366-594A60CE7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EC90B-34F5-44E9-87EE-EF356296E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18B81-7EBF-4D04-9B3A-68F03C5F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4234-5B39-4928-9360-B2C492CBF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E2225-E5A8-46D1-8D2E-044649B9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9A539-B268-45AD-A06D-B45D6AB7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357DB-B7BD-4DD9-99DB-F87F82D4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BA42A-F2C6-47E9-B00B-7EB2A1A23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140AD-722E-4785-BF37-055638151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667A-5F9E-4FCD-9ED1-3DBE8351F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A5D1-502C-4135-AA81-EE008E4BD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C73F-1581-4955-B307-595837546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2524-39C9-47C7-B3E4-327590117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A850-6960-4E74-BFD2-1D12ECED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822B-15F7-4CB7-878B-F36C5D06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E0EB-8DE1-4382-9E93-A452353D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996633"/>
                </a:solidFill>
                <a:latin typeface="Times New Roman"/>
              </a:rPr>
              <a:t>by IVAIR DE SOUZA </a:t>
            </a:r>
            <a:r>
              <a:rPr b="0" lang="pt-BR" sz="1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™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523B8-F4CA-4A49-B812-13355FC04D60}" type="slidenum">
              <a:rPr b="0" lang="pt-BR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C0DFD-B774-40AD-9CA8-5042732557E0}" type="slidenum">
              <a:rPr b="0" lang="pt-BR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06440" y="2378160"/>
            <a:ext cx="8889840" cy="13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ENSAMEN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 agressividade é pré-requisito fundamental de verdadeiros líderes..(ED AZUOS RIAV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685800" y="228240"/>
            <a:ext cx="10439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GESTÃO DO CONHECIMENTO</a:t>
            </a:r>
            <a:br>
              <a:rPr sz="3200"/>
            </a:b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(TECNOLOGIA DA INFORMAÇÃO)</a:t>
            </a:r>
            <a:endParaRPr b="0" i="1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35780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 PALESTRA JÁ VAI COMEÇAR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9933"/>
                </a:solidFill>
                <a:latin typeface="Times New Roman"/>
              </a:rPr>
              <a:t>GESTÃO DO CONHECIMENTO</a:t>
            </a:r>
            <a:br>
              <a:rPr sz="3200"/>
            </a:br>
            <a:r>
              <a:rPr b="1" i="1" lang="pt-BR" sz="3200" spc="-1" strike="noStrike">
                <a:solidFill>
                  <a:srgbClr val="ff9933"/>
                </a:solidFill>
                <a:latin typeface="Times New Roman"/>
              </a:rPr>
              <a:t> (TECNOLOGIA DA INFORMAÇÃO)</a:t>
            </a:r>
            <a:endParaRPr b="0" i="1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2971800"/>
            <a:ext cx="8915400" cy="16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6633"/>
                </a:solidFill>
                <a:latin typeface="Arial"/>
                <a:ea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TECNOLOGIA é,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segundo os dicionários, totalidade e aplicação de conhecimentos.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cc9900"/>
                </a:solidFill>
                <a:uFillTx/>
                <a:latin typeface="Arial"/>
                <a:ea typeface="Arial"/>
              </a:rPr>
              <a:t>volt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9933"/>
                </a:solidFill>
                <a:latin typeface="Times New Roman"/>
              </a:rPr>
              <a:t>GESTÃO DO CONHECIMENTO</a:t>
            </a:r>
            <a:br>
              <a:rPr sz="3200"/>
            </a:br>
            <a:r>
              <a:rPr b="1" i="1" lang="pt-BR" sz="3200" spc="-1" strike="noStrike">
                <a:solidFill>
                  <a:srgbClr val="ff9933"/>
                </a:solidFill>
                <a:latin typeface="Times New Roman"/>
              </a:rPr>
              <a:t> (TECNOLOGIA DA INFORMAÇÃO)</a:t>
            </a:r>
            <a:endParaRPr b="0" i="1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2971800"/>
            <a:ext cx="8839080" cy="26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6633"/>
                </a:solidFill>
                <a:latin typeface="Arial"/>
                <a:ea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Apesar das expressões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Gestão do Conheciment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e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Capital Intelectua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serem muitas vezes usadas indistintamente, é conveniente notar que a primeira comunica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uma idéia de processo, portanto dinâmica e abrangente, enquanto que a segunda refere-se à noção de estoque, o qual pode e deve ser gerenciado.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cc9900"/>
                </a:solidFill>
                <a:uFillTx/>
                <a:latin typeface="Arial"/>
                <a:ea typeface="Arial"/>
              </a:rPr>
              <a:t>volt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990720" y="18288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RANTE DO GRUPO TRADIÇÃO(UM SÓ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2819520"/>
            <a:ext cx="7848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3a2b1"/>
                </a:solidFill>
                <a:latin typeface="Arial"/>
              </a:rPr>
              <a:t>- IVAIR DE SOU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9933"/>
                </a:solidFill>
                <a:latin typeface="Times New Roman"/>
              </a:rPr>
              <a:t>GESTÃO DO CONHECIMENTO</a:t>
            </a:r>
            <a:br>
              <a:rPr sz="3200"/>
            </a:br>
            <a:r>
              <a:rPr b="1" i="1" lang="pt-BR" sz="3200" spc="-1" strike="noStrike">
                <a:solidFill>
                  <a:srgbClr val="ff9933"/>
                </a:solidFill>
                <a:latin typeface="Times New Roman"/>
              </a:rPr>
              <a:t> (TECNOLOGIA DA INFORMAÇÃO)</a:t>
            </a:r>
            <a:endParaRPr b="0" i="1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9933"/>
                </a:solidFill>
                <a:latin typeface="Times New Roman"/>
              </a:rPr>
              <a:t>GESTÃO DO CONHECIMENTO</a:t>
            </a:r>
            <a:br>
              <a:rPr sz="3200"/>
            </a:br>
            <a:r>
              <a:rPr b="1" i="1" lang="pt-BR" sz="3200" spc="-1" strike="noStrike">
                <a:solidFill>
                  <a:srgbClr val="ff9933"/>
                </a:solidFill>
                <a:latin typeface="Times New Roman"/>
              </a:rPr>
              <a:t> (TECNOLOGIA DA INFORMAÇÃO)</a:t>
            </a:r>
            <a:endParaRPr b="0" i="1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19320" y="184464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EMPO PREVISTO APROXIMADO PARA CADA TÓPIC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05120" y="29718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ÇÃ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cerca de 5 minut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05120" y="388620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ENVOLVIMENT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cerca de 35 minut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05120" y="46483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Ã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cerca de 6 minut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09480" y="12193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Á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GESTÃO DO CONHECIMENTO</a:t>
            </a:r>
            <a:br>
              <a:rPr sz="3200"/>
            </a:b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(TECNOLOGIA DA INFORMAÇÃO)</a:t>
            </a:r>
            <a:endParaRPr b="0" i="1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28800" y="1752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28800" y="21337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ENVOLV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09680" y="251460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onhec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2819520"/>
            <a:ext cx="72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 organização do conhecimento e o trabalhador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conhec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09680" y="358128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Gestão do conhec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09680" y="39625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 motivação na organização do conhec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05120" y="59436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4419720"/>
            <a:ext cx="72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ecnologia da Informação e Gestão 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hec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09680" y="5197320"/>
            <a:ext cx="72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Tecnologias úteis para o surporte à Gestão 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hec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905120" y="18288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ENVOLV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9933"/>
                </a:solidFill>
                <a:latin typeface="Times New Roman"/>
              </a:rPr>
              <a:t>GESTÃO DO CONHECIMENTO</a:t>
            </a:r>
            <a:br>
              <a:rPr sz="3200"/>
            </a:br>
            <a:r>
              <a:rPr b="1" i="1" lang="pt-BR" sz="3200" spc="-1" strike="noStrike">
                <a:solidFill>
                  <a:srgbClr val="ff9933"/>
                </a:solidFill>
                <a:latin typeface="Times New Roman"/>
              </a:rPr>
              <a:t> (TECNOLOGIA DA INFORMAÇÃO)</a:t>
            </a:r>
            <a:endParaRPr b="0" i="1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62320" y="23623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 Conhec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362320" y="306396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 A organização do conhecimento e o trabalhador do conhec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364480" y="4114800"/>
            <a:ext cx="375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 u="sng">
                <a:solidFill>
                  <a:srgbClr val="cc9900"/>
                </a:solidFill>
                <a:uFillTx/>
                <a:latin typeface="Arial"/>
              </a:rPr>
              <a:t>Gestão do conhec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362320" y="4952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 motivação na organização do conhec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9933"/>
                </a:solidFill>
                <a:latin typeface="Times New Roman"/>
              </a:rPr>
              <a:t>GESTÃO DO CONHECIMENTO</a:t>
            </a:r>
            <a:br>
              <a:rPr sz="3200"/>
            </a:br>
            <a:r>
              <a:rPr b="1" i="1" lang="pt-BR" sz="3200" spc="-1" strike="noStrike">
                <a:solidFill>
                  <a:srgbClr val="ff9933"/>
                </a:solidFill>
                <a:latin typeface="Times New Roman"/>
              </a:rPr>
              <a:t> (TECNOLOGIA DA INFORMAÇÃO)</a:t>
            </a:r>
            <a:endParaRPr b="0" i="1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438280" y="1905120"/>
            <a:ext cx="72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 u="sng">
                <a:solidFill>
                  <a:srgbClr val="cc9900"/>
                </a:solidFill>
                <a:uFillTx/>
                <a:latin typeface="Arial"/>
              </a:rPr>
              <a:t>Tecnologia da Informaçã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 Gestão do conhec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05120" y="12952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ENVOLV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438280" y="3124080"/>
            <a:ext cx="72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Tecnologias úteis para o surporte à Gestão do Conhec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38280" y="4343400"/>
            <a:ext cx="72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 u="sng">
                <a:solidFill>
                  <a:srgbClr val="cc9900"/>
                </a:solidFill>
                <a:uFillTx/>
                <a:latin typeface="Arial"/>
              </a:rPr>
              <a:t>Diferença entre Gestão do Conhecimento e Capital Intelec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9933"/>
                </a:solidFill>
                <a:latin typeface="Times New Roman"/>
              </a:rPr>
              <a:t>GESTÃO DO CONHECIMENTO</a:t>
            </a:r>
            <a:br>
              <a:rPr sz="3200"/>
            </a:br>
            <a:r>
              <a:rPr b="1" i="1" lang="pt-BR" sz="3200" spc="-1" strike="noStrike">
                <a:solidFill>
                  <a:srgbClr val="ff9933"/>
                </a:solidFill>
                <a:latin typeface="Times New Roman"/>
              </a:rPr>
              <a:t>(TECNOLOGIA DA INFORMAÇÃO)</a:t>
            </a:r>
            <a:endParaRPr b="0" i="1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05120" y="20574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38280" y="251460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- Pergu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9933"/>
                </a:solidFill>
                <a:latin typeface="Times New Roman"/>
              </a:rPr>
              <a:t>GESTÃO DO CONHECIMENTO</a:t>
            </a:r>
            <a:br>
              <a:rPr sz="3200"/>
            </a:br>
            <a:r>
              <a:rPr b="1" i="1" lang="pt-BR" sz="3200" spc="-1" strike="noStrike">
                <a:solidFill>
                  <a:srgbClr val="ff9933"/>
                </a:solidFill>
                <a:latin typeface="Times New Roman"/>
              </a:rPr>
              <a:t> (TECNOLOGIA DA INFORMAÇÃO)</a:t>
            </a:r>
            <a:endParaRPr b="0" i="1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2197080"/>
            <a:ext cx="784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IBLIOGRAF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ite </a:t>
            </a:r>
            <a:r>
              <a:rPr b="0" lang="pt-BR" sz="2400" spc="-1" strike="noStrike" u="sng">
                <a:solidFill>
                  <a:srgbClr val="cc9900"/>
                </a:solidFill>
                <a:uFillTx/>
                <a:latin typeface="Arial"/>
              </a:rPr>
              <a:t>www.fgvsp.br/conhecimento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997, Ed. Campus Ltda, Criação do Conhecimento na Empresa – Autores: Ikujiro Nonaka e Hirotaka Takeuch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998, Ed. Atlas S.A, “Recursos Humanos” - Edição. Compacta/5ª Edição – Autor: Idalberto Chiavenat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2001, Ed. Érica, “Gestão de Tecnologia e Inovação” – 3ª Edição – Autor: Antônio Vico Manã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2002, “Opiniões Próprias”, Autor: Ivair de Souza.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28600" y="2819520"/>
            <a:ext cx="8915400" cy="21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6633"/>
                </a:solidFill>
                <a:latin typeface="Arial"/>
                <a:ea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GESTÃO DO CONHECIMENTO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é um processo sistemático, articulado e intencional, apoiado na geração, codificação, disseminação e apropriação de conhecimentos, com o propósito de atingir a excelência organizacional.                </a:t>
            </a:r>
            <a:r>
              <a:rPr b="0" lang="pt-BR" sz="1800" spc="-1" strike="noStrike" u="sng">
                <a:solidFill>
                  <a:srgbClr val="cc9900"/>
                </a:solidFill>
                <a:uFillTx/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cc9900"/>
                </a:solidFill>
                <a:uFillTx/>
                <a:latin typeface="Arial"/>
                <a:ea typeface="Arial"/>
              </a:rPr>
              <a:t>volt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9933"/>
                </a:solidFill>
                <a:latin typeface="Times New Roman"/>
              </a:rPr>
              <a:t>GESTÃO DO CONHECIMENTO</a:t>
            </a:r>
            <a:br>
              <a:rPr sz="3200"/>
            </a:br>
            <a:r>
              <a:rPr b="1" i="1" lang="pt-BR" sz="3200" spc="-1" strike="noStrike">
                <a:solidFill>
                  <a:srgbClr val="ff9933"/>
                </a:solidFill>
                <a:latin typeface="Times New Roman"/>
              </a:rPr>
              <a:t> (TECNOLOGIA DA INFORMAÇÃO)</a:t>
            </a:r>
            <a:endParaRPr b="0" i="1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5T20:18:05Z</dcterms:created>
  <dc:creator>MPAS/assessoria especial</dc:creator>
  <dc:description/>
  <dc:language>en-US</dc:language>
  <cp:lastModifiedBy>MARIA AUXILIADORA M. DE MELO</cp:lastModifiedBy>
  <cp:lastPrinted>1999-12-07T21:19:08Z</cp:lastPrinted>
  <dcterms:modified xsi:type="dcterms:W3CDTF">2002-07-06T16:11:45Z</dcterms:modified>
  <cp:revision>106</cp:revision>
  <dc:subject/>
  <dc:title>Slide sem título </dc:title>
</cp:coreProperties>
</file>